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C9F-EAE2-44F9-BBC9-179D4ECA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F188-CC76-4F75-ACDB-0C717C04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F4C-19C4-4B40-B6A7-7A1C22CD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5E4-606E-40FB-B81A-15D9E409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D7B4-6164-49A9-BD00-D4411555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D8F7-A1E5-48BA-9DCD-FF4B1AEF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079A-3A6B-4BE0-920F-E96527AB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CC28-89A4-46CB-9F38-55DFE781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E149-EE7D-42CD-904C-B5DE184D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94CE-4953-41A3-B45D-52E8D80E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43E7-9F7E-4454-A1FB-D2BEE0A6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2FF-B0C4-45DF-B380-1C5BE7F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B628-93D1-42A2-A6DE-29D7805D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FA3A-1302-4E83-A3AD-484A6E6C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1088-A1B7-4B2B-9652-5527B86F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6056-79B7-44B9-927A-5452568B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2475-C1E3-41B9-B053-745C18AB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FA83-5F47-49FA-9FEE-800558AB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C4CB-6C53-4F02-8022-1BDCEFBF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7642-7573-4AC4-AA11-5A5C3B53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2A7C-37BE-453A-AD99-6EF4F66E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DB8FD-C655-4EC4-9D57-3300055A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58D-B555-46C6-90F5-B4AC91C5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84F2E-F6D6-4C77-9358-7080C29F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B1E7A-146C-456D-9974-7B9B7A7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C59C-FE16-4539-AD3B-DDA33BD6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FAF41-4BED-4B8F-A8C7-0D78B033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1C992-4950-4623-BB6E-8BF94A96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7BAD-33D3-421D-A2D1-3A51BAE6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6C6F-740E-4319-BEC5-4D14BA69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90DD-EF81-49DF-8909-44041081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F4C4D-77CB-4FFF-ABC3-2CCA93D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4D25-9004-4C65-B6F4-F4C316FB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B03-AA0D-4A2D-B9CC-CDE39592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753C4-6F2D-4CDA-B886-733B3734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323E9-2041-48F3-BFEC-C8E39656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FCF2-8D31-412E-89AA-ED6FB619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82C3-0528-41E0-8F28-661C360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8FD4-8852-491A-A8C8-B07F0A87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50B9-0A83-4BD2-A4EA-285B0A78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32F82-9561-41D9-B1E4-9BE25700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090AA-C3AF-44F4-9E7B-1F20485F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5309B-3E3B-4437-B2D4-919D95DB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146-9B80-4B36-A132-490242EE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78D-54C1-4F72-A07F-9A420AF5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7BE-4BC9-405D-A31A-EF40569A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54D-252C-4BCD-971C-3CFD372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C4D6-621B-4030-B85F-6E8195EE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23E0-1942-4456-BC79-C0A8A8C5A20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AD6-3FE0-4F8F-94ED-3747524D9660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1764-C89B-4840-ADCB-CDFAB48619F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4155-C64A-4ADF-91D6-0075E289BED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A745-3DF9-4D4E-AF9D-C53EF057159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1916280"/>
            <a:ext cx="7200720" cy="23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е обеспечение педагогической аттестации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мы и процедуры аттестации педагогических кадров Республики Татарстан в 2014 году</a:t>
            </a:r>
            <a:br>
              <a:rPr sz="2800"/>
            </a:b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Скругленный прямоугольник 15"/>
          <p:cNvSpPr/>
          <p:nvPr/>
        </p:nvSpPr>
        <p:spPr>
          <a:xfrm>
            <a:off x="3780000" y="4208400"/>
            <a:ext cx="5040000" cy="213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Шаяхме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ульзада Мударис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ведущий консультан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отдела кадровой политики МОи 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оллаж2"/>
          <p:cNvPicPr/>
          <p:nvPr/>
        </p:nvPicPr>
        <p:blipFill>
          <a:blip r:embed="rId1"/>
          <a:stretch/>
        </p:blipFill>
        <p:spPr>
          <a:xfrm>
            <a:off x="395280" y="4240080"/>
            <a:ext cx="3097080" cy="216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Герб Республики Татарстан"/>
          <p:cNvPicPr/>
          <p:nvPr/>
        </p:nvPicPr>
        <p:blipFill>
          <a:blip r:embed="rId2"/>
          <a:stretch/>
        </p:blipFill>
        <p:spPr>
          <a:xfrm>
            <a:off x="324000" y="255600"/>
            <a:ext cx="15112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3600" spc="-1" strike="noStrike">
                <a:solidFill>
                  <a:srgbClr val="0f6fc6"/>
                </a:solidFill>
                <a:latin typeface="Times New Roman"/>
              </a:rPr>
              <a:t>Федеральный </a:t>
            </a:r>
            <a:r>
              <a:rPr b="0" lang="ru-RU" sz="3200" spc="-1" strike="noStrike">
                <a:solidFill>
                  <a:srgbClr val="0f6fc6"/>
                </a:solidFill>
                <a:latin typeface="Times New Roman"/>
              </a:rPr>
              <a:t>Закон</a:t>
            </a:r>
            <a:br>
              <a:rPr sz="3200"/>
            </a:br>
            <a:r>
              <a:rPr b="1" lang="ru-RU" sz="40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«Об образовании в Российской Федерации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1280" y="270792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тья 49. Аттестация педагогических работнико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B1C9-F689-4CF2-9FBF-D70D0CDA9D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E8CC-D56D-4AA6-B626-8A82AB97B8A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32176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Calibri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96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Calibri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начального общего образования (1-4 кл.) (утвержден приказом Минобрнауки России от 6 октября 2009 г. № 373, в ред. приказов от 26 ноября 2010 г. № 1241, от 22 сентября 2011 г. № 235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основного общего образования (5-9 кл.) (утвержден приказом Минобрнауки России от 17 декабря 2010 г. № 189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среднего (полного) общего образования (10-11 кл.) (утвержден приказом Минобрнауки России от 17 мая 2012 г. № 413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6DA2-A669-4788-B61A-E4D1D17C92D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179280" y="1916280"/>
            <a:ext cx="550800" cy="72864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179280" y="3500280"/>
            <a:ext cx="550800" cy="72720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7"/>
          <p:cNvSpPr/>
          <p:nvPr/>
        </p:nvSpPr>
        <p:spPr>
          <a:xfrm>
            <a:off x="177840" y="4724280"/>
            <a:ext cx="550800" cy="72864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26920" y="1990800"/>
          <a:ext cx="7848720" cy="158580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900000" y="3789360"/>
          <a:ext cx="7775640" cy="106668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900000" y="4948200"/>
          <a:ext cx="7775640" cy="122868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3640" y="981000"/>
            <a:ext cx="4895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ad233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дготовлен </a:t>
            </a:r>
            <a:r>
              <a:rPr b="1" lang="ru-RU" sz="2400" spc="-1" strike="noStrike">
                <a:solidFill>
                  <a:srgbClr val="0d29b3"/>
                </a:solidFill>
                <a:latin typeface="Arial Narrow"/>
              </a:rPr>
              <a:t>пакет нормативно-правовой документаци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, включающий приказы и положения, инструктивно-методические материалы, регламентирующие процесс аттестации педагог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880"/>
            <a:ext cx="903600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Внедрение нового порядка аттестации в 2014 году в Р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4" descr="http://moivklad.ru/i/moivklad.ru/deposit_img/e860781370e6bea4c4a1e091dffe7e4e.jpg"/>
          <p:cNvPicPr/>
          <p:nvPr/>
        </p:nvPicPr>
        <p:blipFill>
          <a:blip r:embed="rId1"/>
          <a:stretch/>
        </p:blipFill>
        <p:spPr>
          <a:xfrm>
            <a:off x="5003640" y="1413000"/>
            <a:ext cx="3937320" cy="2663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7" name="Объект 2"/>
          <p:cNvSpPr/>
          <p:nvPr/>
        </p:nvSpPr>
        <p:spPr>
          <a:xfrm>
            <a:off x="324000" y="4005360"/>
            <a:ext cx="856908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ad23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зработаны </a:t>
            </a:r>
            <a:r>
              <a:rPr b="1" lang="ru-RU" sz="2400" spc="-1" strike="noStrike">
                <a:solidFill>
                  <a:srgbClr val="0d29b3"/>
                </a:solidFill>
                <a:latin typeface="Arial Narrow"/>
              </a:rPr>
              <a:t>критериально-оценочная база, диагностический инструментарий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2400" spc="-1" strike="noStrike">
                <a:solidFill>
                  <a:srgbClr val="0d29b3"/>
                </a:solidFill>
                <a:latin typeface="Arial Narrow"/>
              </a:rPr>
              <a:t>методика оценки уровня квалификаци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аттестуемых педагогов на основе компетентностн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708000" y="620640"/>
            <a:ext cx="532764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 Narrow"/>
              </a:rPr>
              <a:t>Создан пакет контрольно-измерительных материалов включающий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ad233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2330"/>
                </a:solidFill>
                <a:latin typeface="Arial Narrow"/>
              </a:rPr>
              <a:t>формы экспертных заключений и приложений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к ним для </a:t>
            </a:r>
            <a:r>
              <a:rPr b="1" i="1" lang="ru-RU" sz="2400" spc="-1" strike="noStrike">
                <a:solidFill>
                  <a:srgbClr val="0d29b3"/>
                </a:solidFill>
                <a:latin typeface="Arial Narrow"/>
              </a:rPr>
              <a:t>всех категорий педагогических работ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ad233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2330"/>
                </a:solidFill>
                <a:latin typeface="Arial Narrow"/>
              </a:rPr>
              <a:t>Проект нормативных документов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для проведения квалификационных испытаний </a:t>
            </a:r>
            <a:r>
              <a:rPr b="1" i="1" lang="ru-RU" sz="2400" spc="-1" strike="noStrike">
                <a:solidFill>
                  <a:srgbClr val="0d29b3"/>
                </a:solidFill>
                <a:latin typeface="Arial Narrow"/>
              </a:rPr>
              <a:t>педагогических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работников с целью установления соответствия занимаемой должности в муниципальных образования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rcRect l="17138" t="17145" r="50621" b="11799"/>
          <a:stretch/>
        </p:blipFill>
        <p:spPr>
          <a:xfrm>
            <a:off x="395280" y="1341360"/>
            <a:ext cx="2643120" cy="3640320"/>
          </a:xfrm>
          <a:prstGeom prst="rect">
            <a:avLst/>
          </a:prstGeom>
          <a:ln w="28440">
            <a:solidFill>
              <a:srgbClr val="06686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0" name="Picture 2" descr=""/>
          <p:cNvPicPr/>
          <p:nvPr/>
        </p:nvPicPr>
        <p:blipFill>
          <a:blip r:embed="rId2"/>
          <a:srcRect l="0" t="16428" r="53125" b="3571"/>
          <a:stretch/>
        </p:blipFill>
        <p:spPr>
          <a:xfrm>
            <a:off x="1042920" y="2949480"/>
            <a:ext cx="2782800" cy="3429000"/>
          </a:xfrm>
          <a:prstGeom prst="rect">
            <a:avLst/>
          </a:prstGeom>
          <a:ln w="28440">
            <a:solidFill>
              <a:srgbClr val="06686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90360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Внедрение нового порядка аттестации в 2014 году в Р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11280" y="907920"/>
            <a:ext cx="8353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5720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вести многочисленные совещания, методические семинары, круглые столы, конференции, посвященные актуальным проблемам аттест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90360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 Narrow"/>
              </a:rPr>
              <a:t>Для  внедрения нового порядка аттестации в 2014 году </a:t>
            </a:r>
            <a:r>
              <a:rPr b="0" lang="ru-RU" sz="3200" spc="-1" strike="noStrike">
                <a:solidFill>
                  <a:srgbClr val="04617b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1" descr="DSC00609"/>
          <p:cNvPicPr/>
          <p:nvPr/>
        </p:nvPicPr>
        <p:blipFill>
          <a:blip r:embed="rId1"/>
          <a:stretch/>
        </p:blipFill>
        <p:spPr>
          <a:xfrm>
            <a:off x="684360" y="4076640"/>
            <a:ext cx="2950920" cy="22338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5" name="Picture 2" descr="DSC00592"/>
          <p:cNvPicPr/>
          <p:nvPr/>
        </p:nvPicPr>
        <p:blipFill>
          <a:blip r:embed="rId2"/>
          <a:stretch/>
        </p:blipFill>
        <p:spPr>
          <a:xfrm>
            <a:off x="3924360" y="4076640"/>
            <a:ext cx="1727280" cy="22338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6" name="Рисунок 8" descr="Z:\_ФОТО\Семинары\Семинар 18.09.2013\DSC00627.JPG"/>
          <p:cNvPicPr/>
          <p:nvPr/>
        </p:nvPicPr>
        <p:blipFill>
          <a:blip r:embed="rId3"/>
          <a:stretch/>
        </p:blipFill>
        <p:spPr>
          <a:xfrm>
            <a:off x="5940360" y="4076640"/>
            <a:ext cx="2664000" cy="22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Нормативный документ  МО и Н РТ, </a:t>
            </a:r>
            <a:br>
              <a:rPr sz="2400"/>
            </a:br>
            <a:r>
              <a:rPr b="0" lang="ru-RU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определяющий задачи по аттестации </a:t>
            </a:r>
            <a:br>
              <a:rPr sz="2400"/>
            </a:br>
            <a:r>
              <a:rPr b="0" lang="ru-RU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на 2014/2015 учебный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9280" y="2133360"/>
            <a:ext cx="806436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Приказ МО и НРТ от 23 июл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2014 г. № 4206/14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700" spc="-1" strike="noStrike">
                <a:solidFill>
                  <a:srgbClr val="0000ff"/>
                </a:solidFill>
                <a:latin typeface="Constantia"/>
              </a:rPr>
              <a:t>«Об итогах аттестации педагогических работников образования РТ в 2013/2014 учебном году и задачах по аттестации на 2014/2015 учебный год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51040" y="357840"/>
            <a:ext cx="7655400" cy="454320"/>
          </a:xfrm>
          <a:prstGeom prst="rect">
            <a:avLst/>
          </a:prstGeom>
          <a:solidFill>
            <a:srgbClr val="000099"/>
          </a:solidFill>
          <a:ln w="25560">
            <a:solidFill>
              <a:srgbClr val="385d8a"/>
            </a:solidFill>
            <a:round/>
          </a:ln>
        </p:spPr>
        <p:txBody>
          <a:bodyPr anchor="t">
            <a:normAutofit fontScale="86000"/>
          </a:bodyPr>
          <a:p>
            <a:pPr marL="234360" indent="-234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Рисунок 24" descr="users2.png"/>
          <p:cNvPicPr/>
          <p:nvPr/>
        </p:nvPicPr>
        <p:blipFill>
          <a:blip r:embed="rId1"/>
          <a:stretch/>
        </p:blipFill>
        <p:spPr>
          <a:xfrm>
            <a:off x="1293840" y="26748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3" descr="user3.png"/>
          <p:cNvPicPr/>
          <p:nvPr/>
        </p:nvPicPr>
        <p:blipFill>
          <a:blip r:embed="rId2"/>
          <a:stretch/>
        </p:blipFill>
        <p:spPr>
          <a:xfrm>
            <a:off x="826920" y="2827440"/>
            <a:ext cx="433440" cy="36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3" descr="businessmen.png"/>
          <p:cNvPicPr/>
          <p:nvPr/>
        </p:nvPicPr>
        <p:blipFill>
          <a:blip r:embed="rId3"/>
          <a:stretch/>
        </p:blipFill>
        <p:spPr>
          <a:xfrm>
            <a:off x="5267160" y="4508640"/>
            <a:ext cx="479520" cy="4777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33" descr="businessmen.png"/>
          <p:cNvPicPr/>
          <p:nvPr/>
        </p:nvPicPr>
        <p:blipFill>
          <a:blip r:embed="rId4"/>
          <a:stretch/>
        </p:blipFill>
        <p:spPr>
          <a:xfrm>
            <a:off x="7450200" y="2911320"/>
            <a:ext cx="536400" cy="536760"/>
          </a:xfrm>
          <a:prstGeom prst="rect">
            <a:avLst/>
          </a:prstGeom>
          <a:ln w="0">
            <a:noFill/>
          </a:ln>
        </p:spPr>
      </p:pic>
      <p:sp>
        <p:nvSpPr>
          <p:cNvPr id="264" name="Скругленный прямоугольник 15"/>
          <p:cNvSpPr/>
          <p:nvPr/>
        </p:nvSpPr>
        <p:spPr>
          <a:xfrm>
            <a:off x="6659640" y="3573360"/>
            <a:ext cx="1871640" cy="1174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по делам молодежи, спорту и туризму 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65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15"/>
          <p:cNvSpPr/>
          <p:nvPr/>
        </p:nvSpPr>
        <p:spPr>
          <a:xfrm>
            <a:off x="3540240" y="5157720"/>
            <a:ext cx="2495520" cy="757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культуры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71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3059280" y="836640"/>
            <a:ext cx="0" cy="28872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6227640" y="836640"/>
            <a:ext cx="0" cy="28872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23" descr="user3.png"/>
          <p:cNvPicPr/>
          <p:nvPr/>
        </p:nvPicPr>
        <p:blipFill>
          <a:blip r:embed="rId5"/>
          <a:stretch/>
        </p:blipFill>
        <p:spPr>
          <a:xfrm>
            <a:off x="4678200" y="4465800"/>
            <a:ext cx="392400" cy="3999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4" descr="users2.png"/>
          <p:cNvPicPr/>
          <p:nvPr/>
        </p:nvPicPr>
        <p:blipFill>
          <a:blip r:embed="rId6"/>
          <a:stretch/>
        </p:blipFill>
        <p:spPr>
          <a:xfrm>
            <a:off x="5267160" y="914400"/>
            <a:ext cx="538200" cy="4651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3" descr="user3.png"/>
          <p:cNvPicPr/>
          <p:nvPr/>
        </p:nvPicPr>
        <p:blipFill>
          <a:blip r:embed="rId7"/>
          <a:stretch/>
        </p:blipFill>
        <p:spPr>
          <a:xfrm>
            <a:off x="7986600" y="2979720"/>
            <a:ext cx="505080" cy="417600"/>
          </a:xfrm>
          <a:prstGeom prst="rect">
            <a:avLst/>
          </a:prstGeom>
          <a:ln w="0">
            <a:noFill/>
          </a:ln>
        </p:spPr>
      </p:pic>
      <p:sp>
        <p:nvSpPr>
          <p:cNvPr id="271" name="Скругленный прямоугольник 15"/>
          <p:cNvSpPr/>
          <p:nvPr/>
        </p:nvSpPr>
        <p:spPr>
          <a:xfrm>
            <a:off x="439560" y="3429000"/>
            <a:ext cx="1872000" cy="1079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здравоохранения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28 ч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3"/>
          <p:cNvSpPr/>
          <p:nvPr/>
        </p:nvSpPr>
        <p:spPr>
          <a:xfrm>
            <a:off x="2482920" y="1436760"/>
            <a:ext cx="5030640" cy="582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тестационная комиссия МО и Н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210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Прямая со стрелкой 8"/>
          <p:cNvCxnSpPr/>
          <p:nvPr/>
        </p:nvCxnSpPr>
        <p:spPr>
          <a:xfrm flipV="1">
            <a:off x="2198160" y="2128320"/>
            <a:ext cx="311760" cy="316800"/>
          </a:xfrm>
          <a:prstGeom prst="straightConnector1">
            <a:avLst/>
          </a:prstGeom>
          <a:ln w="25560">
            <a:solidFill>
              <a:srgbClr val="0000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4" name="Прямая со стрелкой 70"/>
          <p:cNvCxnSpPr/>
          <p:nvPr/>
        </p:nvCxnSpPr>
        <p:spPr>
          <a:xfrm flipV="1">
            <a:off x="4804920" y="3500280"/>
            <a:ext cx="1080" cy="626040"/>
          </a:xfrm>
          <a:prstGeom prst="straightConnector1">
            <a:avLst/>
          </a:prstGeom>
          <a:ln w="25560">
            <a:solidFill>
              <a:srgbClr val="000099"/>
            </a:solidFill>
            <a:miter/>
            <a:headEnd len="med" type="arrow" w="med"/>
            <a:tailEnd len="med" type="arrow" w="med"/>
          </a:ln>
        </p:spPr>
      </p:cxnSp>
      <p:pic>
        <p:nvPicPr>
          <p:cNvPr id="275" name="Рисунок 24" descr="users2.png"/>
          <p:cNvPicPr/>
          <p:nvPr/>
        </p:nvPicPr>
        <p:blipFill>
          <a:blip r:embed="rId8"/>
          <a:stretch/>
        </p:blipFill>
        <p:spPr>
          <a:xfrm>
            <a:off x="3851280" y="4437000"/>
            <a:ext cx="538200" cy="465120"/>
          </a:xfrm>
          <a:prstGeom prst="rect">
            <a:avLst/>
          </a:prstGeom>
          <a:ln w="0">
            <a:noFill/>
          </a:ln>
        </p:spPr>
      </p:pic>
      <p:cxnSp>
        <p:nvCxnSpPr>
          <p:cNvPr id="276" name="Прямая со стрелкой 113"/>
          <p:cNvCxnSpPr/>
          <p:nvPr/>
        </p:nvCxnSpPr>
        <p:spPr>
          <a:xfrm flipV="1">
            <a:off x="5070240" y="940680"/>
            <a:ext cx="1080" cy="407160"/>
          </a:xfrm>
          <a:prstGeom prst="straightConnector1">
            <a:avLst/>
          </a:prstGeom>
          <a:ln w="25560">
            <a:solidFill>
              <a:srgbClr val="0000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7" name="Прямая со стрелкой 116"/>
          <p:cNvCxnSpPr/>
          <p:nvPr/>
        </p:nvCxnSpPr>
        <p:spPr>
          <a:xfrm flipH="1" flipV="1">
            <a:off x="7227360" y="2161440"/>
            <a:ext cx="286560" cy="305640"/>
          </a:xfrm>
          <a:prstGeom prst="straightConnector1">
            <a:avLst/>
          </a:prstGeom>
          <a:ln w="25560">
            <a:solidFill>
              <a:srgbClr val="000099"/>
            </a:solidFill>
            <a:miter/>
            <a:headEnd len="med" type="arrow" w="med"/>
            <a:tailEnd len="med" type="arrow" w="med"/>
          </a:ln>
        </p:spPr>
      </p:cxnSp>
      <p:sp>
        <p:nvSpPr>
          <p:cNvPr id="278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7072-0741-48F4-A8D6-A741E6CB573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Задача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98720" y="1341360"/>
            <a:ext cx="8045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родолжить работу по модернизации системы аттестации педагогических кадров Республики Татарстан во взаимосвязи с задачами  повышения качества образования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697E-FD30-4384-B4CB-0672A38B500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-360" y="3141720"/>
            <a:ext cx="39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 статье </a:t>
            </a:r>
            <a:r>
              <a:rPr b="1" lang="ru-RU" sz="2200" spc="-1" strike="noStrike">
                <a:solidFill>
                  <a:srgbClr val="0d29b3"/>
                </a:solidFill>
                <a:latin typeface="Arial Narrow"/>
              </a:rPr>
              <a:t>«Строительство справедливости. Социальная политика для России»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.В. Путин обратил внимание на необходимость выхода на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ЭФФЕКТИВНЫЙ КОНТРАКТ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с педагогическими работник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http://phapluattp2.vcmedia.vn/Rpg7DiB2SyW22i2esZK04OmnfDjccc/Image/2012/03/24/putinl_eb23d.jpg"/>
          <p:cNvPicPr/>
          <p:nvPr/>
        </p:nvPicPr>
        <p:blipFill>
          <a:blip r:embed="rId1"/>
          <a:stretch/>
        </p:blipFill>
        <p:spPr>
          <a:xfrm>
            <a:off x="4140360" y="1197000"/>
            <a:ext cx="45576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Picture 18" descr="http://belnovosti.ru/files/styles/thumbnail/public/news/13043_26547.jpg?itok=3v7uS_cs"/>
          <p:cNvPicPr/>
          <p:nvPr/>
        </p:nvPicPr>
        <p:blipFill>
          <a:blip r:embed="rId2"/>
          <a:stretch/>
        </p:blipFill>
        <p:spPr>
          <a:xfrm rot="19682400">
            <a:off x="6455880" y="4308120"/>
            <a:ext cx="2433600" cy="16542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4" name="Picture 20" descr="http://www.edinros-arz.ru/files/photo/news/news_43_1_1.jpg"/>
          <p:cNvPicPr/>
          <p:nvPr/>
        </p:nvPicPr>
        <p:blipFill>
          <a:blip r:embed="rId3"/>
          <a:srcRect l="0" t="0" r="30975" b="51797"/>
          <a:stretch/>
        </p:blipFill>
        <p:spPr>
          <a:xfrm>
            <a:off x="4140360" y="4581360"/>
            <a:ext cx="3024000" cy="15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80"/>
            <a:ext cx="78487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ффективный контрак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Прямоугольник 15"/>
          <p:cNvSpPr/>
          <p:nvPr/>
        </p:nvSpPr>
        <p:spPr>
          <a:xfrm>
            <a:off x="324000" y="98100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дним из ключевых направлений государственной политики является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развитие педагогического кадрового потенц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1A6A-2D95-4270-9656-25F76BD382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696080" cy="104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8560" y="1699920"/>
            <a:ext cx="73454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onstantia"/>
              </a:rPr>
              <a:t>Для МО и Н РТ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700" spc="-1" strike="noStrike">
                <a:solidFill>
                  <a:srgbClr val="0033cc"/>
                </a:solidFill>
                <a:latin typeface="Constantia"/>
              </a:rPr>
              <a:t>перевод процедур педагогической аттестации в режим Интернет-технологий в информационной системе «Электронное образование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onstantia"/>
              </a:rPr>
              <a:t>Для ОУ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cc"/>
                </a:solidFill>
                <a:latin typeface="Constantia"/>
              </a:rPr>
              <a:t>- Организовать в ОУ проведение  методических семинаров, педсоветов по совершенствованию  ведущих  профессиональных компетенций в рамках нового порядка аттестации, </a:t>
            </a:r>
            <a:r>
              <a:rPr b="1" lang="ru-RU" sz="2700" spc="-1" strike="noStrike">
                <a:solidFill>
                  <a:srgbClr val="ff0000"/>
                </a:solidFill>
                <a:latin typeface="Constantia"/>
              </a:rPr>
              <a:t>проведение аттестацию на СЗД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68360" y="189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Times New Roman"/>
              </a:rPr>
              <a:t>Задачи на 2014 /2015 учебный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АДАЧИ  ДЛЯ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ИРО Р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еспечить научно-методическую поддержку процесса совершенствования ведущих профессиональных компетенций педагогических работников в рамках нового Порядка аттестац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8392-2F9B-49B3-A9AD-DDA8378C6E5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920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7A4E-DAA8-428B-BCB2-709FCA2192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51D-CDF5-46F5-B70C-163A06B77A8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179280" y="18432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 Министерства здравоохра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социального развития   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26 августа 2010 г.  №761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Об утверждении Еди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го справ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уководителей, специалистов и служащ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аздел «Квалификацио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должностей работников образования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539640" y="260280"/>
            <a:ext cx="81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50560" y="1341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Письмо Департамента общего образова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МО и Н РФ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от 27.02.2012 г.№ 03-109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«О повышении квалификации и аттестации педагогических работников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E47D-4147-4005-A101-8416B31134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179280" y="260280"/>
            <a:ext cx="864072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ва вида аттестации для педаг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 уровне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ля установления соответ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ровня квалификации треб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Изменения в порядке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14A6-D38D-4587-8F18-F7283C8E47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179280" y="260280"/>
            <a:ext cx="813780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БЯЗАТЕЛЬНАЯ  АТТЕС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ттестация 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оответствия  занимаемой долж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водится п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дставлению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дин раз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5 лет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в отношении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 кого нет квалификационных катег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Процедура аттеста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ценка профессиональн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Испытания в письменной форм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4142-C8E6-4E84-9FBC-625283295C8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каз работника от прох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ттестации с целью подтвер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олжности является  наруш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трудовой дисциплины, влекущее за со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исциплинарные взыскания в соответств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  статьей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92 Т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ТВЕТСТВЕННОСТЬ РАБОТ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860D-FCAA-498C-93FA-9962AD44F01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08000" y="169920"/>
            <a:ext cx="813600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ТВЕТСТВЕННОСТЬ  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 своевременное пр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аттестации с целью подтвер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абот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4824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617b"/>
                </a:solidFill>
                <a:latin typeface="Constantia"/>
              </a:rPr>
              <a:t>«…ошибочно представлять программу кадрового развития как простое повышение зарплат по принципу всем сестрам по серьгам, то есть всем поровну, без учёта квалификаций и реального вклада каждого работника. В каждой организации (медицинской, образовательной, научной) должна быть сформирована собственная программа развития и кадрового обновления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В.В. Путин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http://mp3dot.ru/images/art/9/e/9/1/b_9e9191e0f88188d.jpg"/>
          <p:cNvPicPr/>
          <p:nvPr/>
        </p:nvPicPr>
        <p:blipFill>
          <a:blip r:embed="rId1"/>
          <a:srcRect l="0" t="13338" r="0" b="0"/>
          <a:stretch/>
        </p:blipFill>
        <p:spPr>
          <a:xfrm>
            <a:off x="5435640" y="1197000"/>
            <a:ext cx="2873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86C4-4127-4E84-9721-F2F193A170E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 подлежат аттестации работ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меющие квалификационные категор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оработавшие в должности мене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ет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рганиз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беременные женщины, либо находя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отпуске по беременности  и родам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уходу за ребенком до 3-х л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отсутствовавшие на рабоч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есте более 4-х месяце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Заголовок 2"/>
          <p:cNvSpPr/>
          <p:nvPr/>
        </p:nvSpPr>
        <p:spPr>
          <a:xfrm>
            <a:off x="366840" y="120600"/>
            <a:ext cx="7877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ЯЗАТЕЛЬНАЯ 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9F6B-2902-45E6-BC6B-1D387DE560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х аттестация возмож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 п. 1. не ранее,  чем через 2 года по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их выхода с от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 п.2. не ране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чем через год после выхода их на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Заголовок 2"/>
          <p:cNvSpPr/>
          <p:nvPr/>
        </p:nvSpPr>
        <p:spPr>
          <a:xfrm>
            <a:off x="366840" y="120600"/>
            <a:ext cx="851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РОК ИХ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9C41-52CC-41C6-873E-6B20E0544ED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250920" y="631800"/>
            <a:ext cx="7805520" cy="562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egoe UI"/>
              </a:rPr>
              <a:t>Перенос сроков аттестации в пределах 1 год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болезн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( больничный лист, справк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если срок категории истек во врем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тпуска до 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ли зарубежной командировки (стажировки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если работник перешел в год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а новое место работы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связи с сокрашением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если работник завершает обучение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ВУЗе, СС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ЯЗАТЕЛЬНАЯ АТТЕС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7D07-4857-464B-946C-21C3C61889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179280" y="353880"/>
            <a:ext cx="8713800" cy="633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Я ОБЯЗАТЕЛЬ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этап: Подготовка работод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ставлений на аттестуемых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 этап: 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здание приказа в О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3 этап: определение  графика проведения аттес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4 этап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: Провед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валификационных испыт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22A3-F0A3-410B-9E96-ED4816D7E2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РГАНИЗАЦИЯ ОБЯЗАТЕЛЬНОЙ АТТЕС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 этап: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дение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 этап: Оформле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токола в день пр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7 этап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дач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ыпис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 протокола (не позднее 2 рабочих дн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8этап. Работодател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накоми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с выпи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течение 3 – х рабочи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передает протокол для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личном деле работн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7265-4A30-4210-8DD2-5E82ABECC6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ятся аттестационной комиссии  по граф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едущая форма испытаний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ст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присутствии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Альтернативные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ешение педагогических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составление конспекта урока (занят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Заголовок 2"/>
          <p:cNvSpPr/>
          <p:nvPr/>
        </p:nvSpPr>
        <p:spPr>
          <a:xfrm>
            <a:off x="720720" y="83664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1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валификационные  испы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письменной форме    в   РТ (оценка зн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001A-5AA9-4835-BA74-5D6A8451A92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Методика  оценки квал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валификация- совокупнос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 основных компетен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бласти личност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в   постановке   целей   и  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мотивировани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разработке программ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 принятии педагоги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  в     обеспечении     информ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сновы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рганизации педагогической деятельност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Заголовок 2"/>
          <p:cNvSpPr/>
          <p:nvPr/>
        </p:nvSpPr>
        <p:spPr>
          <a:xfrm>
            <a:off x="476280" y="1047600"/>
            <a:ext cx="8516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3E55-8B44-4C05-8D76-73580827A7C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179280" y="333360"/>
            <a:ext cx="8713800" cy="602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РЯДОК ПРОВЕДЕНИЯ  ИСПЫТ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аксимальное время для напи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нспекта урока (занятия)  -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дагог  имеет  при себ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боч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грамму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, гелевую ручку, 10 л. бум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чебник (хрестоматии, сборники задач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дагогу предлаг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нстру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(структура конспекта, критерии, требовани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0209-9758-4ED1-8629-BB491405D4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РЯДОК ПРОВЕДЕНИЯ  ИСПЫТ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нформация о сроках и месте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спытаний сообщается работник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 меся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ботодатель издает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каз о проведении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испы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ботни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ормируе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аттестационную комиссию о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спытания, предмете, классе, рабочей програм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назначенный день работни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нспект урока (занятия) на бумагоносит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присутствии экспертов –членов экспертной коми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ему урок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агает комиссия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 числа 10 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изучению нового материала, указ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рабочей програ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E256-D101-43D5-8DA1-F5A634D43D5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ОРЯДОК ПРОВЕДЕНИЯ  ИСПЫТ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ред началом процедур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и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штампуются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завершении испытаний   кон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редаются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верку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членам коми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результатам провер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-  оформля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( в 2-х экз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Мониторинг приоритетных направлений реализации региональных отраслевых «дорожных» карт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Constantia"/>
              </a:rPr>
              <a:t>Изменения в отраслях социальной сферы, направленные на повышение  эффективности образования и наук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Учет результатов аттестации педагогических работников при переводе их на  эффективный контрак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Методические материалы, разработанные в УО в рамках внедрения эффективного контрак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A4D2-E99D-46EE-8B06-C6D22C38E9E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D3B7-992B-469B-ACBA-01353131D6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324000" y="260280"/>
            <a:ext cx="8461080" cy="600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Заголовок 2"/>
          <p:cNvSpPr/>
          <p:nvPr/>
        </p:nvSpPr>
        <p:spPr>
          <a:xfrm>
            <a:off x="395280" y="76500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ттестация для присвоения квалификационных категорий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95280" y="198900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и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заявлению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едагогических работников  до истечения срока  имеющейся квалификационной категории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ая аттестация  разрешается через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 год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ле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ыдущей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роцедура аттестации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экспертная 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EDD5-6054-438F-92BE-D519FBCCEA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179280" y="189000"/>
            <a:ext cx="8605800" cy="629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 для присвоения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первой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табильные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своения обуч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-выявления развития у обучающихс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 научной (интеллектуальной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ворческой, физкультурно-спортив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личного вклада в повышение качества обра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вершенствования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ранслирования в педагог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оллективах 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воей профессиональн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ктивного участия в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етодических объединений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Заголовок 2"/>
          <p:cNvSpPr/>
          <p:nvPr/>
        </p:nvSpPr>
        <p:spPr>
          <a:xfrm>
            <a:off x="395280" y="404640"/>
            <a:ext cx="85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3441-66E7-4774-B155-CD66679C8A9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24000" y="189000"/>
            <a:ext cx="8461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для присвоения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сше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наличие  первой катег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участие воспитаннико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сероссийских олимпиад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курсах, соревнованиях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транслирования в педагогических коллекти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тивное распространение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новационного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 повышению  качества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472E-51F9-43CB-A7C7-AA2FBA19976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"/>
          <p:cNvSpPr/>
          <p:nvPr/>
        </p:nvSpPr>
        <p:spPr>
          <a:xfrm>
            <a:off x="293760" y="174600"/>
            <a:ext cx="8461440" cy="654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UI Semibold"/>
              </a:rPr>
              <a:t>Работник </a:t>
            </a:r>
            <a:r>
              <a:rPr b="1" lang="ru-RU" sz="2400" spc="-1" strike="noStrike">
                <a:solidFill>
                  <a:srgbClr val="0000ff"/>
                </a:solidFill>
                <a:latin typeface="Segoe UI Semibold"/>
              </a:rPr>
              <a:t>подает в комиссию лич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явление по установлен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равка о профессиональном тестир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работник проходи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ане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Копия аттестационного листа или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кумента по итогам предыдуще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ля 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отовя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 аттестуемого работни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Экспертное заключение, эксперт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еречень документов при аттестации на категорию (первую  или высшую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029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9900ff"/>
                </a:solidFill>
                <a:uFillTx/>
                <a:latin typeface="Calibri"/>
              </a:rPr>
              <a:t>Тестирование проводится:</a:t>
            </a:r>
            <a:br>
              <a:rPr sz="3100"/>
            </a:br>
            <a:br>
              <a:rPr sz="28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в формате 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ЕГЭ, ЕРЭ </a:t>
            </a: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в РЦМКО (8843)223-09-17)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компьютерное тестирование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едагогов и директоров – в системе «Электронное образование» (руководство  по тестированию на сайте МО и Н РТ)</a:t>
            </a:r>
            <a:br>
              <a:rPr sz="2600"/>
            </a:b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769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Зачетный миниму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76360" y="1989000"/>
            <a:ext cx="6696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перв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7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высш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8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 нехватке -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алла </a:t>
            </a: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ляются автоматичес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9633-3CAD-498D-B3A3-1E5A3B385BB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7EB3-928E-4807-AEF9-3494A64670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395280" y="333360"/>
            <a:ext cx="8280360" cy="626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ы тес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ываются за последние 5 л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DEBD-AEDF-491F-8102-2FE22B9DDD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2014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539640" y="9810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изированная информационная система электронного документооборота «Аттестац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Электронном 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56760" y="1341360"/>
            <a:ext cx="8358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Мониторинг реализации Комплекса мер по модернизации  системы образования РТ в рамках национальной инициативы «Наша новая школа</a:t>
            </a:r>
            <a:r>
              <a:rPr b="1" i="1" lang="ru-RU" sz="2800" spc="-1" strike="noStrike">
                <a:solidFill>
                  <a:srgbClr val="0000ff"/>
                </a:solidFill>
                <a:latin typeface="Constantia"/>
              </a:rPr>
              <a:t>»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по направлению</a:t>
            </a:r>
            <a:r>
              <a:rPr b="1" i="1" lang="ru-RU" sz="2800" spc="-1" strike="noStrike">
                <a:solidFill>
                  <a:srgbClr val="0000ff"/>
                </a:solidFill>
                <a:latin typeface="Constanti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Реализация нового порядка аттест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оказатель 3:</a:t>
            </a:r>
            <a:r>
              <a:rPr b="1" lang="ru-RU" sz="2800" spc="-1" strike="noStrike">
                <a:solidFill>
                  <a:srgbClr val="0033cc"/>
                </a:solidFill>
                <a:latin typeface="Constantia"/>
              </a:rPr>
              <a:t>   Доля педагогов, аттестованных на квалификационные категории (первую и высшую) и соответствие занимаемой должности в общей численности педагогов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- 8</a:t>
            </a: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0%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611280" y="476280"/>
            <a:ext cx="7993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глашение между МОиН РТ и МО и Н РФ на 2014 год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астники взаимоотношений в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ИС «АТТЕСТАЦИЯ» (по уровням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63440" y="3957480"/>
            <a:ext cx="52578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РАЙ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СПЕЦИАЛИСТ, МЕТОДИСТ ОТДЕЛА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136440" y="286056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ЗАМ. ДИРЕК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 flipH="1">
            <a:off x="6734160" y="3068640"/>
            <a:ext cx="2160720" cy="8625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179280" y="558972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АТТЕСТАЦИОННАЯ КОМИС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(МОиН 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54080" y="1533600"/>
            <a:ext cx="525780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ходит в свой кабинет в Электронном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через логин, пар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 октября каждого текущего года начало аттестационных процед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120600" y="4862520"/>
            <a:ext cx="52563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Отслеживает (при необходимости) на какой стадии находится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осле направления дело экспертам, доступ к личному делу должен быть закр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108000" y="3308400"/>
            <a:ext cx="5256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ентябре месяце каждого текущего года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заполняет заявление (электронная форма – пересылается в личное дело аттестуемого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Заявка на тес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 flipH="1">
            <a:off x="6732000" y="3235320"/>
            <a:ext cx="2160360" cy="1511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формляет лист самооценки (автоматически)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2015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Заполняет электронную форму аттестационного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41120" y="3078000"/>
            <a:ext cx="5330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кладывает электронную форму (скан) подтверждающи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 flipH="1">
            <a:off x="6732000" y="3068640"/>
            <a:ext cx="2160360" cy="13262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лняет электронную форму карты результа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 аттестационное дело (заявле-ние аттестуемого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365040" y="439740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Аттестационного листа не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8"/>
          <p:cNvSpPr/>
          <p:nvPr/>
        </p:nvSpPr>
        <p:spPr>
          <a:xfrm flipH="1">
            <a:off x="5398920" y="2627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 flipH="1">
            <a:off x="6732000" y="3068640"/>
            <a:ext cx="2160360" cy="16311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Заместитель директора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252360" y="5157720"/>
            <a:ext cx="5254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яет аттестационное дело, в «Отдел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5398920" y="455940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икладывает электронную фор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,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141120" y="328464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ет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электронную форму карты результативност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не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154080" y="1533600"/>
            <a:ext cx="5257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ет график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ертов (направляет экспертов к учителю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20600" y="4862520"/>
            <a:ext cx="5256360" cy="18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еряет документы. Определяет экспертов. Открывает доступ к документам аттестумых экспер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яет дело в аттестационную комис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108000" y="3308400"/>
            <a:ext cx="525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документы на соответствие требованиям к катег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 flipH="1">
            <a:off x="6804000" y="3357720"/>
            <a:ext cx="2160720" cy="1008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Специалист отдела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179280" y="148428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ивает АС в актуальном состоя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Обеспечивает организацию  работы экспертных комиссий 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8"/>
          <p:cNvSpPr/>
          <p:nvPr/>
        </p:nvSpPr>
        <p:spPr>
          <a:xfrm flipH="1">
            <a:off x="6734160" y="3068640"/>
            <a:ext cx="2160720" cy="1313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Электронное образование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79280" y="558972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т в системе  аттестационные документы к заседанию АК МОиН РТ, проводит мониторинг по итогам проведения аттес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179280" y="2565360"/>
            <a:ext cx="5256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ет научно-методическое сопровождение аттес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"/>
          <p:cNvSpPr/>
          <p:nvPr/>
        </p:nvSpPr>
        <p:spPr>
          <a:xfrm>
            <a:off x="536400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179280" y="364500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оверяет документы на соответствие требованиям Н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А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ит заседание 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333360" y="407664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щает документы по итогам  аттестации на своем «сай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8"/>
          <p:cNvSpPr/>
          <p:nvPr/>
        </p:nvSpPr>
        <p:spPr>
          <a:xfrm flipH="1">
            <a:off x="5364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136440" y="2860560"/>
            <a:ext cx="5256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ПРИНИМАЕТ РЕШЕНИ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КАЛЬНЫЙ 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 flipH="1">
            <a:off x="6736680" y="3068640"/>
            <a:ext cx="2160360" cy="14724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Аттестацион-ная комиссия 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179280" y="530064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Дает указание по завершению аттестационного дела и передачи дела в арх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543564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Этапы прохождения докумен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заявления. Заявка на тестирова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аттестационного дела (статус «формирование аттест.дела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атт.дела в отдел образования и его проверка(статус «аттестационное дело сформировано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дела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атус «аттестац.дело ожидает подтверждения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дел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инятие решения (статус «аттест.дело рассмотрено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аспорядительного акта (статус « соответствует /не соответствует «заявленной» категори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ониторинг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рамках мониторинга роста квалификации работников образования Республики Татарстан необходимы цифровые данные о наличии квалификационных категорий педагогических работников образовательных организаций, находящихся на территории соответствующего муниципального образования, включая организации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казанная информация должна автоматически представляться  в отдел кадровой политики Министерства образования и науки Республики Татарстан до 1 мая ежегод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D3E2-DE8F-4585-8601-956E5CF95E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. Предварительный этап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рохождение работни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фесс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естирования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компьютерного или в формате ЕГЭ) С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ач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явлени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на аттестацию (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то прошел в 2010 году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готовка для экспертов листа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Подача документов через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Издание приказа МО и Н РТ о про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Провед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из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по месту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уемого педагог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Заполнение экспертных заключений в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Проведение заседания АК МОи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Изда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каза МОиН РТ об итогах аттест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оформление и выдача аттестационных листов отмен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Средние показатели профессионального роста</a:t>
            </a:r>
            <a:br>
              <a:rPr sz="2400"/>
            </a:b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работников образования Республики Татарстан в 2013-2014 уч .г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B2DF-4103-462F-B368-047D23A4864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2E08-89E2-4ADD-B600-181F5240F82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Объект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5694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D296-5217-4188-8504-291C5B98BA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611280" y="382680"/>
            <a:ext cx="806616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горитм проведения эксперт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определяют состав  экспертных груп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для утверждения приказом МО и Н Р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Независимые эксперты проводят эксперти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профессиональных результатов, анализиру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уроки, сопоставляют  свои выводы с листом самооцен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аттестуемого  педагога, готовят эксперт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заключ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3. 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контролируют оформ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ого заключения  в ИС передают коп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в МОиН РТ для опл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ff"/>
                </a:solidFill>
                <a:latin typeface="Times New Roman"/>
              </a:rPr>
              <a:t>На 2015 год включить в бюджет оплату экспер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43FC-6310-444F-965E-FDDAA8BBF9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888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Экспертиза из 2 блоков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мониторинг результатов (п.3.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ЕГЭ, ЕРЭ     тестирование  олимпиады      внутренний контрол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аттестационная   экспертиз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самооценка       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экспертная оце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55" name="Прямая со стрелкой 4"/>
          <p:cNvCxnSpPr/>
          <p:nvPr/>
        </p:nvCxnSpPr>
        <p:spPr>
          <a:xfrm>
            <a:off x="2050560" y="2205000"/>
            <a:ext cx="1080" cy="5040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6" name="Прямая соединительная линия 13"/>
          <p:cNvSpPr/>
          <p:nvPr/>
        </p:nvSpPr>
        <p:spPr>
          <a:xfrm flipV="1">
            <a:off x="1979640" y="2203560"/>
            <a:ext cx="576108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Прямая со стрелкой 19"/>
          <p:cNvCxnSpPr/>
          <p:nvPr/>
        </p:nvCxnSpPr>
        <p:spPr>
          <a:xfrm>
            <a:off x="3634920" y="2217240"/>
            <a:ext cx="1080" cy="505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8" name="Прямая со стрелкой 20"/>
          <p:cNvCxnSpPr/>
          <p:nvPr/>
        </p:nvCxnSpPr>
        <p:spPr>
          <a:xfrm>
            <a:off x="5363640" y="2217240"/>
            <a:ext cx="1080" cy="505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9" name="Прямая со стрелкой 21"/>
          <p:cNvCxnSpPr/>
          <p:nvPr/>
        </p:nvCxnSpPr>
        <p:spPr>
          <a:xfrm>
            <a:off x="7596000" y="2203200"/>
            <a:ext cx="1080" cy="533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0" name="Прямая соединительная линия 24"/>
          <p:cNvSpPr/>
          <p:nvPr/>
        </p:nvSpPr>
        <p:spPr>
          <a:xfrm>
            <a:off x="1415880" y="4508640"/>
            <a:ext cx="5427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Прямая со стрелкой 25"/>
          <p:cNvCxnSpPr/>
          <p:nvPr/>
        </p:nvCxnSpPr>
        <p:spPr>
          <a:xfrm>
            <a:off x="1401480" y="4508280"/>
            <a:ext cx="1080" cy="7196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2" name="Прямая со стрелкой 27"/>
          <p:cNvCxnSpPr/>
          <p:nvPr/>
        </p:nvCxnSpPr>
        <p:spPr>
          <a:xfrm>
            <a:off x="6843240" y="4508280"/>
            <a:ext cx="1080" cy="7196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ff3300"/>
                </a:solidFill>
                <a:latin typeface="Calibri"/>
              </a:rPr>
              <a:t>Эксперты( не более 2 чел.)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9200"/>
            <a:ext cx="77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Д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ля впервые аттестуемых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800" spc="-1" strike="noStrike">
                <a:solidFill>
                  <a:srgbClr val="9900ff"/>
                </a:solidFill>
                <a:latin typeface="Constantia"/>
              </a:rPr>
              <a:t>1 независимый эксперт и зам.директора ОУ по месту работы аттестуемог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Для подтверждающих категорию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- администрация ОУ (1 чел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ттестуемый имеет право потребовать независимых эксперт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6FF6-E568-4B36-AA75-75E5859260B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250920" y="333360"/>
            <a:ext cx="8497800" cy="619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зависимые эксперт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 направля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 педагогическим работникам (при повторной аттест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и наличии у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достижений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на профессиональн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конкурсах, предметных олимпиадах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государственных, отраслевых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награ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К руководящим работникам, аттестуем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по педагогическим должностям </a:t>
            </a: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независим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эксперты направляются обязательно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4489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ажно!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169992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Для </a:t>
            </a:r>
            <a:r>
              <a:rPr b="1" lang="ru-RU" sz="2600" spc="-1" strike="noStrike">
                <a:solidFill>
                  <a:srgbClr val="ff3300"/>
                </a:solidFill>
                <a:latin typeface="Constantia"/>
              </a:rPr>
              <a:t>высшей </a:t>
            </a: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категории  дополнительно проводится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экспертиза инновационных разработок, если отсутствует инновационная деятельность аттестуемы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в рамках методических конкурсов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научно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–практических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конферен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республиканск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федеральн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международного уров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6767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ечень документов необходимы для ИС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1628640"/>
            <a:ext cx="76327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Constantia"/>
              </a:rPr>
              <a:t>Заявлени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Аттестационный лист старый для высше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Карта результативности профессиональной деятельности для все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Заключение эксперти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Удостоверение о курсах , заверенны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Рецензия или отзыв на  авторские разработки ( или  документ об участии в методическом конкурсе республиканского уровня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Подтверждающий документ об участии детей в олимпиадах, конкурсах, соревнованиях   всероссийского уровня или в региональном этапе данных мероприят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DCCB-70DC-42A8-A756-CD9EBDCCC4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3"/>
          <p:cNvSpPr/>
          <p:nvPr/>
        </p:nvSpPr>
        <p:spPr>
          <a:xfrm>
            <a:off x="250920" y="260280"/>
            <a:ext cx="7921440" cy="630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lnSpc>
                <a:spcPct val="100000"/>
              </a:lnSpc>
              <a:buClr>
                <a:srgbClr val="0033c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каз Министерства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науки Республики Татарст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«О проведении аттестаци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бразовате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Республики Татарстан  в 2014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468360" y="260280"/>
            <a:ext cx="794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  <a:ea typeface="Andalus"/>
              </a:rPr>
              <a:t>Региональные 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D572-69C0-43FD-AAA2-A66ED8BBD8A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№ 4231/14 от 25.07.201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 «Об утверждении Административного регламента по проведению аттестации педагогических  работников  Республики Татарстан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 «Об утвержде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 об экспертной комиссии по муниципальному образованию Республики Татарстан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CA48-716B-4B91-9B68-D8B17D71629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каз МО и Н РТ №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3669/14 от 14 июля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014 г. «Об утверждении Положения о формах и процедурах аттестации педагогических работников РТ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C796-28EA-444B-9D41-357117BD7B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250920" y="476280"/>
            <a:ext cx="8642160" cy="597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ГИОНАЛЬНЫЕ  НОРМАТИВНЫЕ  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аслевое Соглашение между МО и Н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 Татарским рескомом профсоюза рабо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родного образования и науки на 2014-201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ложение №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« Права и льготы работников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Республики Татар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 подготовке и проведении аттестации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йтинг муниципальных образований по наличию высшей категории в 2014 год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F339-DF54-44BE-AB1A-0B8835803D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6A67-C6D3-4DF2-B3D0-A10F3AC992D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Объект 5" descr=""/>
          <p:cNvPicPr/>
          <p:nvPr/>
        </p:nvPicPr>
        <p:blipFill>
          <a:blip r:embed="rId1"/>
          <a:stretch/>
        </p:blipFill>
        <p:spPr>
          <a:xfrm>
            <a:off x="560520" y="1217520"/>
            <a:ext cx="84549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Отраслевое соглашение  с  профсоюзом работников образования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141264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основания дл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еноса сроков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и на подтверждение СЗ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мен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прощенных форм экспертизы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 наличии заслуг, отраслевых и государственных награ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ение  квалификационных категори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 разных должностях (учебных предметах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907D-431F-457E-AEFE-C0EE782C3D9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CC1-C830-49C0-AC76-2C6C4058FE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250920" y="260280"/>
            <a:ext cx="8570880" cy="622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20 января 2011 г. № 63/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«Об утверждении Примерного поло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об аттестации руководителей  (директо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заведующих, начальников) образов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6C87-7405-477A-9AC0-04EA6E9D55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179280" y="333360"/>
            <a:ext cx="8713800" cy="626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ЕГИОНАЛЬНЫЕ НОРМАТИВНЫЕ  А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казы Министерства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еспублики Татарст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т 19 января 2011 г. № 47/11 «Об утвер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ложения об аттестационной комиссии МО и Н 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т 12 января 2012 г.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№ 107/12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«Об аттест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омиссии МО и Н 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ADE8-5EEF-4F47-B954-55ABB438B89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"/>
          <p:cNvSpPr/>
          <p:nvPr/>
        </p:nvSpPr>
        <p:spPr>
          <a:xfrm>
            <a:off x="0" y="142920"/>
            <a:ext cx="90360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 экспертной комиссий  по подготовке и проведени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ттестации на соответствие занимаемой должности в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учить зам. директоров, председ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онных комиссии У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ИРО Р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 Контролировать проведение испыта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Контролировать разработку лока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СЗД (направлю по электрон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25E5-4E3D-4473-94CB-66BB8856A6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250920" y="333360"/>
            <a:ext cx="8642160" cy="614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 экспертной комиссии  по подгот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проведению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  квалификационные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готовить список педагогов, у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рок действия категорий заканчивается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01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нформировать их о сроках и условиях по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явлений  на аттестацию,  в т. ч.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тверждения  имеющейся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ранее направить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х на професс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естир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В 2015 году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будет после заявления для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12F2-1567-4CB4-B3BC-E0E5A20894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08720" cy="75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ГРАФИК  АТТЕСТАЦИИ  НА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ЗД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28440" y="1773360"/>
            <a:ext cx="76057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 2014 года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формление, представлений  и списков (по форме протокол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спертной комиссий  в программ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L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приказ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 1 октября по 10 октября 2014 г. 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дение квалификационных испытаний в присутствии представителей экспертной комиссии АК  МО И Н  РТ, проведение засед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6419-052C-490E-9F9D-2561D638BA4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81378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          </a:t>
            </a:r>
            <a:br>
              <a:rPr sz="2500"/>
            </a:br>
            <a:r>
              <a:rPr b="1" lang="ru-RU" sz="2500" spc="-1" strike="noStrike">
                <a:solidFill>
                  <a:srgbClr val="ff3300"/>
                </a:solidFill>
                <a:latin typeface="Times New Roman"/>
              </a:rPr>
              <a:t>ЗАЯВИТЕЛЬНАЯ  АТТЕСТАЦИЯ НА  ПЕРВУЮ  И ВЫСШУЮ  КАТЕГОРИЮ в 2014 г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Октябрь 2014 </a:t>
            </a:r>
            <a:r>
              <a:rPr b="1" lang="ru-RU" sz="2900" spc="-1" strike="noStrike">
                <a:solidFill>
                  <a:srgbClr val="000000"/>
                </a:solidFill>
                <a:latin typeface="Constantia"/>
              </a:rPr>
              <a:t>г.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нтрализованный прием в ИС заявлений на аттестацию работников, у которых срок действия квалификационных категорий заканчивается в 2015 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Ноябрь </a:t>
            </a: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2014 г</a:t>
            </a:r>
            <a:r>
              <a:rPr b="0" lang="ru-RU" sz="29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работа экспертных груп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Декабрь 2014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г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аправление договоров на экспертов в МО и Н Р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бщая задача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1989000"/>
            <a:ext cx="8785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Сохранение и дальнейшее совершенствование региональной модели аттестации педагогических кадров в соответствии с современными требованиям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9BE2-52E1-411A-901C-7E61C81E49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6758-DABF-4163-AC82-884316D5F25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ttp//www.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on.tatar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Раздел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«Педагогическая аттестация»</a:t>
            </a: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Тел. 294-95-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468360" y="260280"/>
            <a:ext cx="794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йт Министерства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 науки Республики Татар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8EE0-296B-45BE-B995-601AD7EBD5E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639720" y="1560600"/>
            <a:ext cx="7894800" cy="21034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Скругленный прямоугольник 15"/>
          <p:cNvSpPr/>
          <p:nvPr/>
        </p:nvSpPr>
        <p:spPr>
          <a:xfrm>
            <a:off x="3780000" y="4208400"/>
            <a:ext cx="5040000" cy="213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5" descr="коллаж2"/>
          <p:cNvPicPr/>
          <p:nvPr/>
        </p:nvPicPr>
        <p:blipFill>
          <a:blip r:embed="rId2"/>
          <a:stretch/>
        </p:blipFill>
        <p:spPr>
          <a:xfrm>
            <a:off x="395280" y="3286080"/>
            <a:ext cx="8248680" cy="3114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8" descr="Герб Республики Татарстан"/>
          <p:cNvPicPr/>
          <p:nvPr/>
        </p:nvPicPr>
        <p:blipFill>
          <a:blip r:embed="rId3"/>
          <a:stretch/>
        </p:blipFill>
        <p:spPr>
          <a:xfrm>
            <a:off x="324000" y="255600"/>
            <a:ext cx="15112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йтинг муниципальных образований по наличию первой и высшей категории в 2014 год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C34-4B37-40A6-BA9B-D8D266DDDD9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1AC9-4F5B-4FDD-88B0-D97A8ECD315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Объект 5" descr=""/>
          <p:cNvPicPr/>
          <p:nvPr/>
        </p:nvPicPr>
        <p:blipFill>
          <a:blip r:embed="rId1"/>
          <a:stretch/>
        </p:blipFill>
        <p:spPr>
          <a:xfrm>
            <a:off x="560520" y="1217520"/>
            <a:ext cx="8454960" cy="5316480"/>
          </a:xfrm>
          <a:prstGeom prst="rect">
            <a:avLst/>
          </a:prstGeom>
          <a:ln w="0">
            <a:noFill/>
          </a:ln>
        </p:spPr>
      </p:pic>
      <p:pic>
        <p:nvPicPr>
          <p:cNvPr id="225" name="Диаграмма 6" descr=""/>
          <p:cNvPicPr/>
          <p:nvPr/>
        </p:nvPicPr>
        <p:blipFill>
          <a:blip r:embed="rId2"/>
          <a:stretch/>
        </p:blipFill>
        <p:spPr>
          <a:xfrm>
            <a:off x="338040" y="1596960"/>
            <a:ext cx="84679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225360" y="950760"/>
            <a:ext cx="8491680" cy="398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http://kunelradio.ru/media/uploads/2012/08/01/pervoklaski.jpg"/>
          <p:cNvPicPr/>
          <p:nvPr/>
        </p:nvPicPr>
        <p:blipFill>
          <a:blip r:embed="rId2"/>
          <a:stretch/>
        </p:blipFill>
        <p:spPr>
          <a:xfrm>
            <a:off x="5148360" y="3933720"/>
            <a:ext cx="3781440" cy="24955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01:08Z</dcterms:created>
  <dc:creator>admin</dc:creator>
  <dc:description/>
  <dc:language>en-US</dc:language>
  <cp:lastModifiedBy>Shayahmetova</cp:lastModifiedBy>
  <cp:lastPrinted>2014-08-27T17:24:32Z</cp:lastPrinted>
  <dcterms:modified xsi:type="dcterms:W3CDTF">2014-08-27T17:25:49Z</dcterms:modified>
  <cp:revision>238</cp:revision>
  <dc:subject/>
  <dc:title>Слайд 1</dc:title>
</cp:coreProperties>
</file>